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6F00-FBF1-448E-953E-71EECB40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167D-17E5-450E-9E15-2A0A9631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465A-0AE9-4000-ADEC-E2E460F3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BB75-3A7E-4E62-A667-85505B38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2CD9-66EB-49E9-BC5D-999B7415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0D10-179B-4017-BAF8-2E647ABC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5F63-E30F-4DA3-B3D4-126E2D14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B672-2020-468E-96AD-FD595CC0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BD32-3684-4BB0-8870-425ABA3F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CE55-4C8F-4E43-9577-D6483540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35EA-FE12-4DF4-BC75-1541E488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C2EB-93B4-44A6-A8EF-BADB7A93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6F7A-CB43-490A-B236-4BB431608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honors_algebra_2_homework_assign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7.3  Power Functions &amp; Function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. 4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ssign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Operations on Funct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 for any two functions f(x) &amp; g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d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h(x) = f(x) + 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bt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h(x) = f(x) – 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ltipli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h(x) = f(x)*g(x)  OR  f(x)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v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h(x) =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g(x)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f(x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÷ 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h(x) = f(g(x))  OR  g(f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**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all real x-values that “make sense” (i.e. can’t have a zero in the denominator, can’t take the even nth root of a negative number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:  Let f(x)=3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&amp; g(x)=2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 Find (a) the sum, (b) the difference, and (c) the domain for ea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(x) +g(x)=3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(x)-g(x)=3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2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main of (a) all real 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main of (b) all real 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1066680" y="3200400"/>
            <a:ext cx="1143000" cy="7588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5"/>
          <p:cNvSpPr/>
          <p:nvPr/>
        </p:nvSpPr>
        <p:spPr>
          <a:xfrm>
            <a:off x="990720" y="4495680"/>
            <a:ext cx="1143000" cy="7621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6"/>
          <p:cNvSpPr/>
          <p:nvPr/>
        </p:nvSpPr>
        <p:spPr>
          <a:xfrm>
            <a:off x="3733920" y="5105520"/>
            <a:ext cx="3657600" cy="7617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7"/>
          <p:cNvSpPr/>
          <p:nvPr/>
        </p:nvSpPr>
        <p:spPr>
          <a:xfrm>
            <a:off x="3733920" y="5867280"/>
            <a:ext cx="3657600" cy="685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/Subtraction WS#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3"/>
          <p:cNvGraphicFramePr/>
          <p:nvPr/>
        </p:nvGraphicFramePr>
        <p:xfrm>
          <a:off x="1219320" y="1752480"/>
          <a:ext cx="704376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7043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4"/>
          <p:cNvGraphicFramePr/>
          <p:nvPr/>
        </p:nvGraphicFramePr>
        <p:xfrm>
          <a:off x="1125360" y="2630520"/>
          <a:ext cx="7296480" cy="33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25360" y="2630520"/>
                    <a:ext cx="7296480" cy="33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3"/>
          <p:cNvGraphicFramePr/>
          <p:nvPr/>
        </p:nvGraphicFramePr>
        <p:xfrm>
          <a:off x="1379520" y="2286000"/>
          <a:ext cx="726912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9520" y="2286000"/>
                    <a:ext cx="7269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Restrictions to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3"/>
          <p:cNvGraphicFramePr/>
          <p:nvPr/>
        </p:nvGraphicFramePr>
        <p:xfrm>
          <a:off x="457200" y="1371600"/>
          <a:ext cx="7829640" cy="18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7829640" cy="18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2971800" y="3962520"/>
          <a:ext cx="1523880" cy="209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62520"/>
                    <a:ext cx="152388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:  Let f(x)=4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&amp; g(x)=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 Find (a) the product, (b) the quotient, and (c) the domain for ea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1/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-1/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/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712800" y="2859120"/>
          <a:ext cx="1244520" cy="11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2859120"/>
                    <a:ext cx="12445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Oval 10"/>
          <p:cNvSpPr/>
          <p:nvPr/>
        </p:nvSpPr>
        <p:spPr>
          <a:xfrm>
            <a:off x="4572000" y="1981080"/>
            <a:ext cx="1066680" cy="7621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1"/>
          <p:cNvSpPr/>
          <p:nvPr/>
        </p:nvSpPr>
        <p:spPr>
          <a:xfrm>
            <a:off x="685800" y="4572000"/>
            <a:ext cx="990720" cy="13716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2895480" y="2895480"/>
            <a:ext cx="62485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 Domain of (a) all rea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 0, because you can’t take the square root of a negativ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main of (b) all reals &gt; 0, because you can’t take the square root of a negative number and you can’t have a denominator of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3"/>
          <p:cNvGraphicFramePr/>
          <p:nvPr/>
        </p:nvGraphicFramePr>
        <p:xfrm>
          <a:off x="7237440" y="1592280"/>
          <a:ext cx="1527120" cy="91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7440" y="1592280"/>
                    <a:ext cx="152712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Line 15"/>
          <p:cNvSpPr/>
          <p:nvPr/>
        </p:nvSpPr>
        <p:spPr>
          <a:xfrm flipV="1">
            <a:off x="8077320" y="2514600"/>
            <a:ext cx="75960" cy="9144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16"/>
          <p:cNvGraphicFramePr/>
          <p:nvPr/>
        </p:nvGraphicFramePr>
        <p:xfrm>
          <a:off x="2133720" y="5872320"/>
          <a:ext cx="806400" cy="83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5872320"/>
                    <a:ext cx="80640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Line 19"/>
          <p:cNvSpPr/>
          <p:nvPr/>
        </p:nvSpPr>
        <p:spPr>
          <a:xfrm flipH="1">
            <a:off x="3124080" y="6172200"/>
            <a:ext cx="1447920" cy="3808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 flipV="1">
            <a:off x="5715000" y="2209680"/>
            <a:ext cx="1523880" cy="152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1295280" y="6400800"/>
            <a:ext cx="838440" cy="152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g(x))  means you take the function g and plug it in for the x-values in the function f, then simplif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(f(x))  means you take the function f and plug it in for the x-values in the function g, then simplif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Let f(x)=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g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.  Find (a) f(g(x)), (b) g(f(x)), (c) f(f(x)), and (d) the domain of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2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2819520" y="1600200"/>
                <a:ext cx="10033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Text Box 6"/>
          <p:cNvSpPr/>
          <p:nvPr/>
        </p:nvSpPr>
        <p:spPr>
          <a:xfrm>
            <a:off x="457200" y="2971800"/>
            <a:ext cx="4038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(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7"/>
              <p:cNvSpPr txBox="1"/>
              <p:nvPr/>
            </p:nvSpPr>
            <p:spPr>
              <a:xfrm>
                <a:off x="1219320" y="4038480"/>
                <a:ext cx="106668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Oval 9"/>
          <p:cNvSpPr/>
          <p:nvPr/>
        </p:nvSpPr>
        <p:spPr>
          <a:xfrm>
            <a:off x="2666880" y="1600200"/>
            <a:ext cx="1295640" cy="12193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990720" y="4038480"/>
            <a:ext cx="1371600" cy="10670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4800600" y="1676520"/>
            <a:ext cx="4343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 2(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2"/>
              <p:cNvSpPr txBox="1"/>
              <p:nvPr/>
            </p:nvSpPr>
            <p:spPr>
              <a:xfrm>
                <a:off x="5410080" y="2819520"/>
                <a:ext cx="6210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4"/>
              <p:cNvSpPr txBox="1"/>
              <p:nvPr/>
            </p:nvSpPr>
            <p:spPr>
              <a:xfrm>
                <a:off x="6095880" y="3048120"/>
                <a:ext cx="609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Oval 16"/>
          <p:cNvSpPr/>
          <p:nvPr/>
        </p:nvSpPr>
        <p:spPr>
          <a:xfrm>
            <a:off x="6248520" y="2971800"/>
            <a:ext cx="609480" cy="533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2895480" y="3774960"/>
            <a:ext cx="5867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of (a) all reals except x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main of (b) all reals except x=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main of (c) all reals except x=0, because 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an’t have x=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9:14:10Z</dcterms:created>
  <dc:creator>julie.geoghagan</dc:creator>
  <dc:description/>
  <dc:language>en-US</dc:language>
  <cp:lastModifiedBy>test</cp:lastModifiedBy>
  <cp:lastPrinted>2014-05-13T14:07:34Z</cp:lastPrinted>
  <dcterms:modified xsi:type="dcterms:W3CDTF">2014-05-13T18:59:47Z</dcterms:modified>
  <cp:revision>23</cp:revision>
  <dc:subject/>
  <dc:title>7.3  Power Functions &amp; Function Operations</dc:title>
</cp:coreProperties>
</file>